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177-35AE-41EC-92FE-4165FF56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F8B-BF46-4BEE-BB28-250E798F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CE3-3404-41E8-99CA-2FF45637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7DAF-41BC-4F9C-9029-CAE253CC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076-E597-4EC1-BD7C-412559D8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6C7-9F93-43DB-81AB-8C129639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F6F-E535-41E5-B082-A354D4D9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47B-F9DA-4556-96C4-CE49212E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2D1-73FE-4DD8-A04D-9300E647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A82-0E65-423B-A598-C8E7E963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B52F-097D-4204-B2E9-1596D1E7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874-1143-47F6-AF5F-8615E1C2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5A70-CDAD-4593-A953-2D6F95A38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466800">
            <a:off x="5143320" y="4876560"/>
            <a:ext cx="2286000" cy="4572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21053400">
            <a:off x="5143320" y="2971440"/>
            <a:ext cx="2286000" cy="4572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43280" y="28576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1800" y="2867040"/>
            <a:ext cx="486000" cy="2495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040" y="2952720"/>
            <a:ext cx="371520" cy="2400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514520" y="2543040"/>
            <a:ext cx="428760" cy="3372120"/>
            <a:chOff x="1514520" y="2543040"/>
            <a:chExt cx="428760" cy="3372120"/>
          </a:xfrm>
        </p:grpSpPr>
        <p:sp>
          <p:nvSpPr>
            <p:cNvPr id="47" name=""/>
            <p:cNvSpPr/>
            <p:nvPr/>
          </p:nvSpPr>
          <p:spPr>
            <a:xfrm>
              <a:off x="1514520" y="2543040"/>
              <a:ext cx="428760" cy="337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42960" y="2723760"/>
              <a:ext cx="371520" cy="3162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886120" y="2486160"/>
            <a:ext cx="428760" cy="3371760"/>
            <a:chOff x="2886120" y="2486160"/>
            <a:chExt cx="428760" cy="3371760"/>
          </a:xfrm>
        </p:grpSpPr>
        <p:sp>
          <p:nvSpPr>
            <p:cNvPr id="50" name=""/>
            <p:cNvSpPr/>
            <p:nvPr/>
          </p:nvSpPr>
          <p:spPr>
            <a:xfrm>
              <a:off x="2886120" y="2486160"/>
              <a:ext cx="428760" cy="337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14560" y="2666880"/>
              <a:ext cx="371520" cy="3162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943280" y="41148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238800" y="2514600"/>
            <a:ext cx="428760" cy="3371760"/>
            <a:chOff x="6238800" y="2514600"/>
            <a:chExt cx="428760" cy="3371760"/>
          </a:xfrm>
        </p:grpSpPr>
        <p:sp>
          <p:nvSpPr>
            <p:cNvPr id="54" name=""/>
            <p:cNvSpPr/>
            <p:nvPr/>
          </p:nvSpPr>
          <p:spPr>
            <a:xfrm>
              <a:off x="6238800" y="2514600"/>
              <a:ext cx="428760" cy="337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67240" y="2695320"/>
              <a:ext cx="371520" cy="3162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943280" y="3543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43280" y="5486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43280" y="48006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2629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33148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388620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fa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457200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525780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0280" y="4114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0280" y="45720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0280" y="52578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00280" y="35431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00280" y="28573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2743200"/>
            <a:ext cx="1371600" cy="28576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314880"/>
            <a:ext cx="914400" cy="1600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I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057400"/>
            <a:ext cx="1371600" cy="42292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229280"/>
              <a:gd name="textAreaBottom" fmla="*/ 4162320 h 4229280"/>
            </a:gdLst>
            <a:ahLst/>
            <a:rect l="textAreaLeft" t="textAreaTop" r="textAreaRight" b="textAreaBottom"/>
            <a:pathLst>
              <a:path w="21600" h="66591">
                <a:moveTo>
                  <a:pt x="3600" y="0"/>
                </a:moveTo>
                <a:arcTo wR="3600" hR="3600" stAng="16200000" swAng="-5400000"/>
                <a:lnTo>
                  <a:pt x="0" y="62991"/>
                </a:lnTo>
                <a:arcTo wR="3600" hR="3600" stAng="10800000" swAng="-5400000"/>
                <a:lnTo>
                  <a:pt x="18000" y="66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58280" y="2971800"/>
            <a:ext cx="1143000" cy="325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2971800"/>
            <a:ext cx="79992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hears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86640" y="228600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96120" y="23623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760" y="24004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15440" y="24004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33640" y="1676520"/>
            <a:ext cx="914400" cy="533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pt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57680" y="6095880"/>
            <a:ext cx="9144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pt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72280" y="1943280"/>
            <a:ext cx="79992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-Depend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72280" y="6058080"/>
            <a:ext cx="79992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-Depend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3840" y="2057400"/>
            <a:ext cx="838440" cy="34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314880" y="4914000"/>
            <a:ext cx="22824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772080" y="4914000"/>
            <a:ext cx="22824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600880" y="4914000"/>
            <a:ext cx="22824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029920" y="4914000"/>
            <a:ext cx="22752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43680" y="354348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257800" y="3657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143680" y="422928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434340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57880" y="6172200"/>
            <a:ext cx="914400" cy="34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71680" y="1028880"/>
            <a:ext cx="4342320" cy="342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960" y="914400"/>
            <a:ext cx="457128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6969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5105520"/>
            <a:ext cx="79992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2286000"/>
            <a:ext cx="0" cy="3772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172200"/>
            <a:ext cx="1143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080" y="1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95760" y="1981080"/>
            <a:ext cx="9144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Trans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19440" y="6172200"/>
            <a:ext cx="9144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2819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co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46022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ch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rot="466800">
            <a:off x="5143320" y="4876560"/>
            <a:ext cx="2286000" cy="4572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21053400">
            <a:off x="5143320" y="2971440"/>
            <a:ext cx="2286000" cy="4572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43280" y="28576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971800" y="914400"/>
            <a:ext cx="27432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our Personalit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0" y="457200"/>
            <a:ext cx="42292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gnitive The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361800" y="2867040"/>
            <a:ext cx="486000" cy="2495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040" y="2952720"/>
            <a:ext cx="371520" cy="2400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514520" y="2543040"/>
            <a:ext cx="428760" cy="3372120"/>
            <a:chOff x="1514520" y="2543040"/>
            <a:chExt cx="428760" cy="3372120"/>
          </a:xfrm>
        </p:grpSpPr>
        <p:sp>
          <p:nvSpPr>
            <p:cNvPr id="110" name=""/>
            <p:cNvSpPr/>
            <p:nvPr/>
          </p:nvSpPr>
          <p:spPr>
            <a:xfrm>
              <a:off x="1514520" y="2543040"/>
              <a:ext cx="428760" cy="337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42960" y="2723760"/>
              <a:ext cx="371520" cy="3162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886120" y="2486160"/>
            <a:ext cx="428760" cy="3371760"/>
            <a:chOff x="2886120" y="2486160"/>
            <a:chExt cx="428760" cy="3371760"/>
          </a:xfrm>
        </p:grpSpPr>
        <p:sp>
          <p:nvSpPr>
            <p:cNvPr id="113" name=""/>
            <p:cNvSpPr/>
            <p:nvPr/>
          </p:nvSpPr>
          <p:spPr>
            <a:xfrm>
              <a:off x="2886120" y="2486160"/>
              <a:ext cx="428760" cy="337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14560" y="2666880"/>
              <a:ext cx="371520" cy="3162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943280" y="41148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238800" y="2514600"/>
            <a:ext cx="428760" cy="3371760"/>
            <a:chOff x="6238800" y="2514600"/>
            <a:chExt cx="428760" cy="3371760"/>
          </a:xfrm>
        </p:grpSpPr>
        <p:sp>
          <p:nvSpPr>
            <p:cNvPr id="117" name=""/>
            <p:cNvSpPr/>
            <p:nvPr/>
          </p:nvSpPr>
          <p:spPr>
            <a:xfrm>
              <a:off x="6238800" y="2514600"/>
              <a:ext cx="428760" cy="337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67240" y="2695320"/>
              <a:ext cx="371520" cy="3162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943280" y="3543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43280" y="5486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43280" y="48006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2629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33148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388620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fa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57200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25780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280" y="4114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0280" y="45720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280" y="52578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00280" y="35431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800280" y="28573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2743200"/>
            <a:ext cx="1371600" cy="28576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314880"/>
            <a:ext cx="914400" cy="1600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I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2057400"/>
            <a:ext cx="1371600" cy="42292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229280"/>
              <a:gd name="textAreaBottom" fmla="*/ 4162320 h 4229280"/>
            </a:gdLst>
            <a:ahLst/>
            <a:rect l="textAreaLeft" t="textAreaTop" r="textAreaRight" b="textAreaBottom"/>
            <a:pathLst>
              <a:path w="21600" h="66591">
                <a:moveTo>
                  <a:pt x="3600" y="0"/>
                </a:moveTo>
                <a:arcTo wR="3600" hR="3600" stAng="16200000" swAng="-5400000"/>
                <a:lnTo>
                  <a:pt x="0" y="62991"/>
                </a:lnTo>
                <a:arcTo wR="3600" hR="3600" stAng="10800000" swAng="-5400000"/>
                <a:lnTo>
                  <a:pt x="18000" y="66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58280" y="2971800"/>
            <a:ext cx="1143000" cy="325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2971800"/>
            <a:ext cx="79992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hears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86640" y="228600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96120" y="23623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760" y="24004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15440" y="24004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3640" y="1676520"/>
            <a:ext cx="914400" cy="533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pt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57680" y="6095880"/>
            <a:ext cx="9144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pt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72280" y="1943280"/>
            <a:ext cx="79992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-Depend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72280" y="6058080"/>
            <a:ext cx="79992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-Depend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33840" y="2057400"/>
            <a:ext cx="838440" cy="34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314880" y="4914000"/>
            <a:ext cx="22824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772080" y="4914000"/>
            <a:ext cx="22824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600880" y="4914000"/>
            <a:ext cx="22824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029920" y="4914000"/>
            <a:ext cx="22752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3680" y="354348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257800" y="3657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143680" y="422928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434340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57880" y="6172200"/>
            <a:ext cx="914400" cy="34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71680" y="1028880"/>
            <a:ext cx="4342320" cy="342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960" y="914400"/>
            <a:ext cx="457128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6969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43880" y="5105520"/>
            <a:ext cx="79992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286000"/>
            <a:ext cx="0" cy="3772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172200"/>
            <a:ext cx="1143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3080" y="1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95760" y="1981080"/>
            <a:ext cx="9144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Trans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19440" y="6172200"/>
            <a:ext cx="9144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9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co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46022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ch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7:13:14Z</dcterms:created>
  <dc:creator>Technology</dc:creator>
  <dc:description/>
  <dc:language>en-US</dc:language>
  <cp:lastModifiedBy>Technology</cp:lastModifiedBy>
  <dcterms:modified xsi:type="dcterms:W3CDTF">2009-05-01T13:17:31Z</dcterms:modified>
  <cp:revision>7</cp:revision>
  <dc:subject/>
  <dc:title>PowerPoint Presentation</dc:title>
</cp:coreProperties>
</file>